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9E7-66BD-4C48-B12C-42F4949E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AC1B-DEC3-44D6-9B16-2BD26375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0E6-6A47-4F5A-8446-FFF3EE8C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478-E7C9-484B-A424-D49B964A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C4C1-2311-4F89-9983-BE494583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C8E9-1C2A-4491-A538-F9CE259E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C52A-D481-4811-BB17-F49C9ADE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BD61-5071-42D9-917B-5A28CA4A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02D8-24CC-4D38-B201-A22638A0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96C7-48B5-4F05-B32F-D8E4C34E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47A9-C542-4F70-8946-CABC1729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8687-730E-4006-A8A7-B028DA46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ECA7-B8DF-45EF-9B03-7A77C0AF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8C30-59AB-4A99-B494-B8089CB4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F3E1-1B42-4BBF-8A6A-18C420EB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7376-F2E2-4F2D-8F5E-57138486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A4C1-C4FA-49F1-8425-CB46A85A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796D-BF29-4CF0-8EA0-8F088889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76D-5B6D-4249-831C-9CE07F2B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2AA-2346-414B-B40E-952BA10D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D1C-B476-4BF4-9763-3A7EF0B5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11A-BD92-4FBA-8D86-B6CFEF16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8535-650D-4791-A9FD-DBAC72B3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840-339A-4F62-8D50-2B1E78F5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B7CE-C86A-49A5-8C6A-784363AC73B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4876-E05A-40E1-81F2-D1194C0D29E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youtube.com/watch?v=3nvyuif80kI&amp;feature=related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Before we begin…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 out a piece of paper.  Answer the following ques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was the Cold War all about?  What does “cold war” mea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o fought the Cold W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was the cause of the Korean W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mutually assured destruction (MAD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McCarthyis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id the U.S. economy and education change during the postwar perio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id pop culture and family life change during the 1950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Marshall Plan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uropean Recovery Program (EP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build, create stronger economic found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stern Europ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growth and prospe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24280" y="1219320"/>
            <a:ext cx="3880080" cy="453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The Berlin Airlif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990720"/>
            <a:ext cx="403848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major international crises of the Cold W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viet Union blocked the Western Allies' railway and road access to the sectors of Berlin under their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the Soviet zone to supply Berlin with food and fu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the Soviets practical control over the entire 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3160" y="1447920"/>
            <a:ext cx="4117680" cy="43225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83600" y="6324480"/>
            <a:ext cx="543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The Berlin Airlift: The Story of a Great Achievemen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Alliances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rth Atlantic Treaty Organization (NAT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 "to keep the Russians out, the Americans in, and the Germans down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NATO Secretary General, Lord Is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rsaw Pa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itary response to West Germany’s integration to NATO Pact (May 1955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Your Assignmen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6.2: The Korean W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, 2,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65640" y="152280"/>
            <a:ext cx="3463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The Cold War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45-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WWII Aftermath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viet Union occupied Eastern Euro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t Germ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09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WWII Aftermath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952880" cy="4210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5719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was also divi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WWII Aftermath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564624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so was Ber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4864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What were Truman’s views on power?  What were Stalin’s view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Arial"/>
              </a:rPr>
              <a:t>How did they disagree on the issue of self-governance in Eastern Europ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Truman Doctrine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ree peoples who are resisting attempted subjugation by armed minorities or by outside pressures.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d to Greek and Turkish govern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14800" y="3048120"/>
            <a:ext cx="284148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910120" y="228600"/>
            <a:ext cx="323388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ontainment</a:t>
            </a:r>
            <a:br>
              <a:rPr sz="4200"/>
            </a:b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343400" cy="3470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itary, economic, and diplomatic strategies to lessen the spread of Commu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hance America’s security and influence abro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ent a "domino effect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22:09:22Z</dcterms:created>
  <dc:creator>Owner</dc:creator>
  <dc:description/>
  <dc:language>en-US</dc:language>
  <cp:lastModifiedBy>Owner</cp:lastModifiedBy>
  <dcterms:modified xsi:type="dcterms:W3CDTF">2010-04-20T04:46:13Z</dcterms:modified>
  <cp:revision>4</cp:revision>
  <dc:subject/>
  <dc:title>The Cold War</dc:title>
</cp:coreProperties>
</file>